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9CFCE-1068-4078-BF21-68FEA06154D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07C-A6BC-4D34-A6BC-1AD49105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188-54E7-442A-909B-3D8F7E39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7DA-60ED-4E0E-94B6-348E3150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810-A2F1-401A-941C-B9B16CF6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968-3B63-4200-97D4-D16027B6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218-A8D2-4325-A3FB-DAAA3556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6E9-76B6-4B46-B50F-07C62271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A90-E70A-4B2E-A3A9-5C69DDAD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447-759E-41B6-996D-8E03757A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626-18E1-4E62-8DAE-D4111482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179-2021-4439-A73F-6E9C0AD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926-2412-4493-983B-E8F0AF06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2F02A-3E9F-449B-92A4-B71F49F82E0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00360" y="1770120"/>
            <a:ext cx="5940360" cy="4172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forzamiento de las poblaciones de </a:t>
            </a:r>
            <a:r>
              <a:rPr b="0" i="1" lang="es-ES_tradnl" sz="4400" spc="-1" strike="noStrike">
                <a:solidFill>
                  <a:srgbClr val="000000"/>
                </a:solidFill>
                <a:latin typeface="Arial"/>
              </a:rPr>
              <a:t>Artemisia granaten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0000" y="6300720"/>
            <a:ext cx="687564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ía Vela Camp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Just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ección 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e de interés económico y etnobotánico (uso medici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 de cultivo en el Banco de germoplasma del Jardín Botánico de Córd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jeta a varios programas de conservación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grama de Conservación de hábitats con flora amenazada de Sierra Nevada, Programa de Recuperación de las altas cumbres de Sª Nevad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79640" y="179280"/>
            <a:ext cx="7740360" cy="702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19280" y="5759280"/>
            <a:ext cx="6669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Arial"/>
              </a:rPr>
              <a:t>Artemisia granaten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160720"/>
            <a:ext cx="6120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zanilla de Sierra Nevada, manzanilla rea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MPOSITA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nsidera amenazada desde 19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peligro de extinción (Junta de Andaluc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Peligro Crítico (CR;UI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0720" y="2519280"/>
            <a:ext cx="3240000" cy="2963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1619280"/>
            <a:ext cx="9539280" cy="5580000"/>
          </a:xfrm>
          <a:prstGeom prst="roundRect">
            <a:avLst>
              <a:gd name="adj" fmla="val 28"/>
            </a:avLst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i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ividad vegetativa desde el mes de Mayo. Floración Junio-Agosto. Madurez de las semillas Agosto y Septie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emóc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ogá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aja tasa de fertilidad(semillas/capítulo) (23.3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yor tasa reproductora (hasta 73 capítulos con 62-100 flores/capítulo (En pob </a:t>
            </a:r>
            <a:r>
              <a:rPr b="0" i="1" lang="es-ES_tradnl" sz="3000" spc="-1" strike="noStrike">
                <a:solidFill>
                  <a:srgbClr val="000000"/>
                </a:solidFill>
                <a:latin typeface="Arial"/>
              </a:rPr>
              <a:t>ex-sit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sas máximas de germinación del 5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80000" y="2639880"/>
            <a:ext cx="2513160" cy="16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59280" y="3419640"/>
            <a:ext cx="5219640" cy="377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619280"/>
            <a:ext cx="4500720" cy="3779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0360" y="1619280"/>
            <a:ext cx="936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480" bIns="450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clusiva de las cumbres de Sierra Nevada (Granada y Almería), dentro del Parque 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 menos 11 poblaciones  muy dispersas en lugares inaccesibles  y algunos ejemplares aisl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nos de 2000 individuos reproduct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tribución y dem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0720" y="5529240"/>
            <a:ext cx="3633840" cy="185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0000"/>
            <a:ext cx="504036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0360" y="1389240"/>
            <a:ext cx="8820000" cy="74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stizales,  lugares secos y pedregosos, cascajares y grietas de rocas (micaesquistos), a veces en lugares inacce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vive con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ormathophyla purpurea, Erigeron frigidus, Leontodon boryi, Thymus serpylloides, Viola crassiuscula, Chaenorrhinum glareosum, Festuca clementei, Trisetum glaciale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sde (2.500) 2.700 m hasta 3.300 en los pisos oromediterráneo y crioromediterráne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ortamiento Ecoló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8996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iesgos y agentes de pertur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60720" y="2879640"/>
            <a:ext cx="7851600" cy="1938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2879640"/>
            <a:ext cx="1892520" cy="197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300720" y="4948200"/>
            <a:ext cx="358956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entes Bibliográfica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lora amenazada y endémica de Sª Nevada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bro rojo de la flora amenazada de Andaluc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las y libro rojo de la Flora Vascular Amenazada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9640" y="4319640"/>
            <a:ext cx="2009880" cy="28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forzami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actuales poblaciones están dentro de una zona proteg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jo número de individuos reproductores, poblaciones inv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ones: inaccesibilidad, necesidad de dotar a la zona de gran control, no hay datos de nº de individuos/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9:23:27Z</dcterms:created>
  <dc:creator>María Vela Campoy</dc:creator>
  <dc:description/>
  <dc:language>en-US</dc:language>
  <cp:lastModifiedBy/>
  <cp:revision>1</cp:revision>
  <dc:subject/>
  <dc:title/>
</cp:coreProperties>
</file>